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124-A594-4C57-AA94-F33DDAF7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8FF-8337-44DF-8447-7A686298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B84-E27F-45A6-9CD1-5C24021E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1B2-ABE8-4143-8500-D0B0528F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4B88-EEE7-4005-96CD-B6456697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40B8-FA9F-40F6-B3B7-593B18D8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6E32-8F76-4C3A-AB4A-410263D1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A11D-370E-4F6C-ACF2-9F597858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5DDA-C165-4ED4-B81E-14AE9485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212A-987D-4030-8B46-B181D02E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53E7-6D79-477B-AB47-24BA05C5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65F-E116-4837-BD85-888A02CF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7EA2-831A-46F3-BF27-BDFD47E3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0722-E42E-4B73-AE5A-CCFF33E5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7DDF-F943-4369-8897-2EEEB029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E070-083F-4C71-BDA2-FFB7A2F3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DF8A-E25B-47A4-88F5-3CDDA7E7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CC3-F3D4-4BFD-B4A7-D00E2A28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113-2D59-4952-80A9-6E1F887B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A90-6EF7-4CF5-A347-835AA9A2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21B-D7E8-4E9D-90D2-49B64CD6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7C8-D052-428F-83A7-52B60D17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5A6-8E85-481C-814D-BEDCEDA5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3A1-4BC4-4B30-A741-590B0256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0709-886A-4DB6-83E0-18A88FE66DF2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B5B1-585F-4FFF-8E53-6C805169C220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ktoprating.com/wallpapers/green-guitar-wallpaper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400" y="160200"/>
            <a:ext cx="7848720" cy="22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66"/>
                </a:solidFill>
                <a:latin typeface="Arial"/>
              </a:rPr>
              <a:t>Interfenţa undelor mecanice. Unde staţionare. Aplicaţi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rezentare  - evaluare ini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ţial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of. Berian Sergi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iceul Teologic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Baptist </a:t>
            </a:r>
            <a:r>
              <a:rPr b="0" lang="ro-RO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„Emanuel” Ora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904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838080" y="1828800"/>
            <a:ext cx="780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96666"/>
                </a:solidFill>
                <a:latin typeface="Times New Roman"/>
              </a:rPr>
              <a:t>Cum a influenţat studiul undelor evoluţia umanităţi</a:t>
            </a:r>
            <a:r>
              <a:rPr b="1" lang="en-US" sz="2800" spc="-1" strike="noStrike">
                <a:solidFill>
                  <a:srgbClr val="196666"/>
                </a:solidFill>
                <a:latin typeface="Times New Roman"/>
              </a:rPr>
              <a:t>i 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5800" y="3581280"/>
            <a:ext cx="7808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i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Cum ne afectează cutremurele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În ce măsură există în jurul nostru fenomene ondulatorii şi de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c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âte feluri sunt acestea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Cum se produc sunetele şi în ce mod le auzim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Care e efectul ultrasunetelor şi infrasunetelor asupra noastră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609480" y="1763640"/>
            <a:ext cx="82789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. În timpul propagării unei unde mecanice are loc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atât transport de energie cât şi transport de substanţă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transport de energie, fără transport de substanţă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transport de substanţă, fără transport de energi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. Daţi trei exemple de fenomene ondulatorii din natură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Consideraţii generale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312840" y="4424400"/>
            <a:ext cx="2492280" cy="1938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3048120" y="4421160"/>
            <a:ext cx="2598480" cy="194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6019920" y="4363920"/>
            <a:ext cx="219708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Tipuri de unde. Lungimea de undă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839880" y="2720880"/>
            <a:ext cx="3429000" cy="1446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6018120" y="249876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685800" y="1763640"/>
            <a:ext cx="82026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3. După orientarea oscilaţiilor în raport cu direcţia de propagare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xistă două tipuri de unde. Care sunt acestea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4. Lungimea de undă es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distanţa până la care unda ajunge la un moment dat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distanţa parcursă de undă într-un timp egal cu perioa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cil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ţie a sursei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distanţa parcursă de undă în unitatea de timp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Viteza de propagare a undei (1)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3520" y="1600200"/>
            <a:ext cx="83818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85800" y="1763640"/>
            <a:ext cx="82026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5. Formula corectă a lungimii de undă, în funcţie de frecvenţa sursei şi viteza de propagare a undei, es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1036800" y="2598840"/>
                <a:ext cx="8362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4"/>
              <p:cNvSpPr txBox="1"/>
              <p:nvPr/>
            </p:nvSpPr>
            <p:spPr>
              <a:xfrm>
                <a:off x="2932200" y="2585880"/>
                <a:ext cx="8096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6"/>
              <p:cNvSpPr txBox="1"/>
              <p:nvPr/>
            </p:nvSpPr>
            <p:spPr>
              <a:xfrm>
                <a:off x="4691160" y="2751120"/>
                <a:ext cx="1143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3"/>
          <p:cNvSpPr/>
          <p:nvPr/>
        </p:nvSpPr>
        <p:spPr>
          <a:xfrm>
            <a:off x="609480" y="4800600"/>
            <a:ext cx="82026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8" descr=""/>
          <p:cNvPicPr/>
          <p:nvPr/>
        </p:nvPicPr>
        <p:blipFill>
          <a:blip r:embed="rId1"/>
          <a:stretch/>
        </p:blipFill>
        <p:spPr>
          <a:xfrm>
            <a:off x="5931000" y="2658960"/>
            <a:ext cx="2781360" cy="2205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534960" y="4689360"/>
            <a:ext cx="82026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6. Viteza de propagare a unei unde longitudinale se calculează după formul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9"/>
              <p:cNvSpPr txBox="1"/>
              <p:nvPr/>
            </p:nvSpPr>
            <p:spPr>
              <a:xfrm>
                <a:off x="6564240" y="5276880"/>
                <a:ext cx="947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925560" y="5278320"/>
                <a:ext cx="9730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3649680" y="5472000"/>
                <a:ext cx="12175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Viteza de propagare a undei (2)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33520" y="1600200"/>
            <a:ext cx="83818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7. O undă longitudinală cu frecvenţa de 500 Hz se propagă într-un mediu elastic al cărui modul de elasticitate este E = 4,23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N/m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 Densitatea mediului are valoarea de 2700 kg/m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 Valoarea lungimii de undă es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4 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6 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8 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. 10 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33520" y="4114800"/>
            <a:ext cx="82026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8. Viteza de propagare a unei unde transversale într-o coardă elastică se calculează după formul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6311880" y="4915080"/>
                <a:ext cx="9460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833400" y="4892760"/>
                <a:ext cx="954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3622680" y="5094360"/>
                <a:ext cx="1257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Difracţia undelor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9. Difracţia undelor se explică cu ajutorul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reflexiei;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refracţiei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principiului Huygens-Fresnel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623880" y="3408480"/>
            <a:ext cx="2176560" cy="270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2755800" y="3403440"/>
            <a:ext cx="2192400" cy="27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4548240" y="3484440"/>
            <a:ext cx="39909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Reflexia şi refracţia undelor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0. Ce legătură există între reflexia undelor sonore şi ecou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1. Influenţează refracţia ultrasunetelor calitatea imaginii ecografic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2. Cum ajută reflexia undelor la orientarea liliacului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3738600" cy="243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9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38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Bibliografi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60948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Hristev, A., Mecanică şi acustică, Ed. Didactică şi Pedagogică, Bucureşti, 1982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Hristev, A., Probleme de fizică pentru clasele IX-X, Ed. Didactică şi Pedagogică, Bucureşti, 1983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onescu-Andrei, R., Onea, C., Toma, I., Manual de fizică pentru clasa a XI-a, Ed. Art, Bucureşti, 2008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www.desktoprating.com/wallpapers/green-guitar-wallpaper.ht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medishop.ro/product--Ecograf-doppler-color-portabil-Mindray-M5--192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izica.ro/textbooks/fizica11/html/1c3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izica.ro/textbooks/fizica11/html/1c10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cientia.ro/stiinta-la-minut/53-scintilatii-stiintifice/140-cum-se-formeaza-curcubeul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58:23Z</dcterms:created>
  <dc:creator>Sergiu</dc:creator>
  <dc:description/>
  <dc:language>en-US</dc:language>
  <cp:lastModifiedBy>Eu</cp:lastModifiedBy>
  <dcterms:modified xsi:type="dcterms:W3CDTF">2010-11-27T17:55:47Z</dcterms:modified>
  <cp:revision>400</cp:revision>
  <dc:subject/>
  <dc:title>Evaluare_initiala</dc:title>
</cp:coreProperties>
</file>